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44903-D7ED-47E7-BD12-E97808B4E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DAF69-B14C-4FAA-BFC2-B2F4FE79D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ECA19-FF96-4192-BF99-C909BCF23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A66B4-11D1-4380-80EF-1B2691DAD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B1D8C-D81D-4D98-A5D4-A7273B6BD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2D407-397A-468B-BC4B-DE36F56F4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F75E4-8940-4D29-AFEC-5AAFDDDD2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44953-8305-4095-92BD-A6E35FB14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C2A7C-2A11-4F9A-B57F-B365FF47E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74B02-38CE-417F-84EB-9DF92B09B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02BE7-C119-4064-8499-1444B8C23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22EF7-26C0-4D03-B562-47FE733F1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DFAC2-58A3-4139-A6F2-4EE2B552A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9D1-E94C-46F9-A22D-1BA3FEBD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A60-3E0F-41B7-9922-8C9EB740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8C4-A3E2-4D13-9C1C-211F725F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F47-4738-4C1F-8B10-E8BAF249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547-C5EF-42D1-A261-E7493BBA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B6C-121F-4F12-8AF3-3DAAFE2A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B09-43B7-488E-89E5-12E85007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B57-C879-41FC-9998-A1AD9135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529-F287-4D70-A539-C4C2EB82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B72-274F-4528-A34B-EE1F16A3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E5C-7BDD-4E09-9F0C-36C764D3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5AE-B2F3-4F51-A05A-25FF63F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1964E-704C-4999-8051-FAA4EFC5D2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1180800"/>
            <a:ext cx="90709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 Compromise Laws Review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Westward Expansion raise the debate over slavery in the U.S.?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8001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.  Most of the Supreme Court Justices who decided the Dred Scott case were slave-owners themselv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.  The Dred Scott decision effectively took away political rights from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mericans of African descent, including blacks living freely in the North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  “Abolitionist” is another word for someone who believed slavery should be allowed in the United States.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litionists believed that slavery was wrong and needed to be eliminate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  Maine became a state in 1820 as a “trade-off” with Missouri (where slavery was allowed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503280" y="304920"/>
            <a:ext cx="90709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ior to 1820, a balance was maintained in the House of Representatives on slavery, as there were 11 free states and 11 slave states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was in the Senate where the balance was important, since each state is equally represented t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The Missouri Compromise attempted to create a permanent solution to the question of slavery and national expansion by drawing a line at the 36°30” line of latitude, north of which would be “free” and south of which would be “slave.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  California became a “free” state with the Compromise of 185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01560" y="86040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gitive Slave Law said that any slave that escaped from the South would be free if they could reach the free Northern sta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aw required all citizens, including those in the North, to assist with the capture of runaway slav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oncept of popular sovereignty was that the issue of whether or not slavery would be allowed in new states would be decided with one big nation-wide vo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lse.  Under popular sovereignty, each state or territory would determine its laws on slavery through a popular vote in that state or terri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olence was used only by pro-slavery forces in Kansas, who were trying to influence an important territory-wide vote on the issue of slave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litionists, such as John Brown, used brutal violence to try to influence the vote as well.  The territory became known as “Bleeding Kansas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5:37:07Z</dcterms:created>
  <dc:creator/>
  <dc:description/>
  <dc:language>en-US</dc:language>
  <cp:lastModifiedBy>Dominic Lambek</cp:lastModifiedBy>
  <dcterms:modified xsi:type="dcterms:W3CDTF">2014-05-29T14:05:27Z</dcterms:modified>
  <cp:revision>1</cp:revision>
  <dc:subject/>
  <dc:title>Slavery Compromise Laws Review  Focus question:   How did Westward Expansion raise the debate over slavery in the U.S.?   </dc:title>
</cp:coreProperties>
</file>